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dt" idx="3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ftr" idx="3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 type="sldNum" idx="3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1504-7ADC-4515-9BFA-F924DBA49786}" type="slidenum">
              <a:rPr b="0" lang="sk-S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Uvedená časť zákona stanovuje, ktoré údaje sa zaznamenávajú a sledujú v CREUČ. V tomto zmysle sme nastavili aj výstupy pre hodnotiteľov v CREUČ za vykazovacie obdobie 2013 a tiež aj 2014, ktoré sa bude následne onedlho hodnotiť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Zástupný symbol čísla snímky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7BF2-C93E-43A7-83C1-686CC2A5BEF1}" type="slidenum">
              <a:rPr b="0" lang="sk-S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5614-3995-40B6-9E9C-8723F172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63D4-707E-450F-8E02-FCA87FBB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9A0BD1-3F21-4F87-B5A6-632BE06E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03AA0C-1AB2-465F-B163-E4AF5B77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391C56-B85D-4996-BADC-52B82A20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B63C2-78DF-4D39-8C99-29CDC107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0A21C3-49B0-41E6-928B-95E69949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5ED8D4-F726-4230-889A-8128092C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E3A7B1-419A-4159-ADAA-0F09D2DD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ADEED6-CEFE-49A5-8673-E1F7E16B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BFBFF6-165F-48D3-B6EE-B56179F1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91BDC-5518-4972-9341-E9C74320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A8A2-F71E-4B6F-8C43-C0D98AE9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669A29-729B-4B99-8929-7D825B86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47E03D-6518-4CC5-A55D-753C9A47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92761D-E1CB-432D-A3CB-47628617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D0C1A5-D405-4B20-9472-62763522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AF5F9-7A10-4686-8944-913AB778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8D8FF-C7FB-4E29-867E-0F05DB14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C63E6-F1BA-4647-A683-B59C2FB5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A39781-0CB1-4D61-A343-5CD8EAC9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30D59C-B672-4AEB-812A-C3F3B366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32176E-263C-4FA1-A113-23FBC439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3353-45C3-4645-8934-64C4E21F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9E5851-D9BB-40D5-AF60-050E2E9C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DBE3C-0A1E-40C7-9EA0-0E2B0B93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66F4A-ABDD-4EFE-B2D4-6EEE3378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61F1F-5496-431D-B680-4FFF8B80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EDDB2-0382-408E-B075-A595BB8E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240A9-D8F7-47E9-95C5-8298D616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6A554-460F-480E-A4B8-1E6FB52C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FDA8E-592A-42F4-AEEF-F63BAA50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B2F82-BA02-46E5-8EAE-ED44504D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70B38-AC15-4703-A16E-642DD179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6FA8-A0A8-41CE-8FAB-D3234F85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0E685-BAE5-4317-818D-B9AE3E7A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4FD7D-523E-4CEF-B35E-92B188EF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E44A5-E92C-4FA8-B29E-1BF3869E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4B11B8-C680-40BC-89E2-51838561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772A88-E88C-4899-8106-6AD2EA33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76FCBE-EB9F-4C14-AF03-10598355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ECD02E-6199-4A94-9FBB-84233BEF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961E36-5BB1-46BE-882B-47C82411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3EDCA-63BD-4107-A13B-584D6A00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3BE28B-6C93-4DD4-9898-CB28F89F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76AC-F436-4237-82ED-94E52913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3AA379-32D7-4D29-B8B0-245F3E4C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7389C3-2A53-47B5-938A-547C9A71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0BE8E4-B008-4E79-A134-D1F94182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6E5DBB-B10C-4325-8172-629D01B5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AEEA2-C983-4105-9DB8-D0055E3EF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A134-CB31-4477-A497-25CD92CB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1985-410E-46D4-975C-1C53CD9F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C662-BBBA-41C3-B753-688BC3B9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3F53-3026-4ACE-9171-887344BE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AEC7-F92F-4128-9F4E-B4A0B6B3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E114-6957-410E-96EB-CAB7882D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047A-DC76-4375-82FC-A066F123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AAEC-FBB7-49B9-8416-EC94F46A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897D-FDD6-4C4C-BD25-433A6F1A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23AE-D1A1-445F-9BF5-0DA75F1E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C9DC-718B-40B4-A850-DCEC98EB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5899A-39B3-4ED6-947D-3072BC9C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E1004-D2AC-4F6A-96CF-31F80C58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9E19E-165E-432C-B36D-E7C65906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299DB-62C0-49B3-B1D3-0BFCCE71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7E52B-3F7C-4955-9DBC-0716CABB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9819-EBC0-4721-A1E0-2EE68181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64296-8F2C-4B22-B75F-68A33C9A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2A4DB-FCC5-4817-B662-79C80A21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8ED90-B37A-4D38-84D0-52FECC38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84D9C-4DA7-4CBF-99BF-4140E42E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12EF3-C471-4A26-B816-6CF595AD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0C452-9038-44D0-8D0F-AF7C29C8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77500-887C-4115-AC00-593C42A0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5F926-744C-42F3-B559-7DCCE3B0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47D7E-AD62-4BCC-92BB-CC3F4299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4F9E7-80F6-4D84-8362-DD6865B6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A20D-DC5A-423F-89EF-6700B2AC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2F5B9-16F2-445C-8540-8B99EC04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A9E2A-BB05-4B84-9580-C14DC90F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7DEFD-1121-47DC-BFFE-9743BF33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F27A5-1215-429E-B972-97088EDA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BB64D-0E3F-4E95-A6FB-D2EFE859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5ADA2-0DAC-4E31-BE2A-67CBA79E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DC2F6-46AC-4190-ADE3-07EAE949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1589D-5937-4E0A-A205-6F37C8B6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8F1F1-B5FF-4497-ADD0-00580341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2CEF1-AA08-4D08-A2AC-6E915DF5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735-1D54-46DE-A4E0-8131A2ED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587E4-7901-47FD-A201-5D5C5E89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EB053-3410-49C1-9A74-B69287B1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EA257-AD81-4C69-A7A1-DB756A48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78072-26EE-419F-989D-18225AF3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67FBF-29E0-4961-AD01-8B99CB79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18F04-9C75-40B7-8C28-AAACB544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6669D-4E3C-4526-8174-EB15B5DE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B6809-655A-4977-8CAA-273EC07E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0BEAE-FC1D-4987-A183-125DE00C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4DE3F-A71E-49A6-86A8-2E85E11B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597-4ABF-475C-BC59-7A07F045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B0FDC-749F-4F11-B303-2F6B8475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6F94C-6765-43DB-92BA-F9018984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2DECA-4155-4512-874A-DA7A031A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67EE9-137C-451A-91B4-C00BB02F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D4DF3-6110-4197-9163-C0CE4899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2AB8B-6F93-4FCC-A3E6-A6E92FC2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17C25-BFB8-476D-B4D6-56690486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42949-4EE7-484E-8D2E-0271CF7B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8909F-9DA2-46BE-95AD-9DA033CF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04DFE-5CC2-4E61-9597-2DF98B96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699-C1EE-4578-82E8-8AB5D620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90859-FF08-4AD2-B5F7-FAF0E704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2E118-38EB-4D58-B629-DA483CCB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609BF-ED5A-4C61-ADA1-C6E2BFF3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93952-00FE-44B8-8CC5-9E03B50C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A1F02-6162-45DC-964D-4B5C529F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11C8C-86FD-4DD2-8C00-46123D37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1C74E-61D0-43D6-8B7B-261B1C68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91CE9-3137-4FD5-B868-A35B441D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DF934-5B3C-416C-9BA5-03D592AB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6BF58-5EA9-4C68-A553-8C008EE4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BB76-1D3A-4879-8114-46166394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09547-6A48-4066-8987-77C363E9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391FA-BEBB-46D1-8E2F-D819B46F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71026-82BB-4529-A087-00433B39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7A059-F1BB-4DDC-9298-848C756F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44B91-A8F8-4788-B002-04CC4E3E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50AD1-D9B4-4CAE-8AA4-4995DEB7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2761F-CEB7-424A-AFAB-462C94BA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AB434-1661-48B0-A099-F545D7CA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F8454-492C-43BD-8848-E7633C02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07B6C-BA6D-4992-BEBE-789E9ABA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BE9-5F6A-4005-86B7-D1727121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63D6D-7487-4F01-972E-790B1015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9C5B5-D0B1-473F-8257-2C4A8866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67108-2FCD-4793-AE1B-8249ADC1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6D39F-BE66-4302-A753-7652FFB6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ECC28-7C00-4858-B993-A8C96554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5FBB7-AD50-4B8E-ADF0-C9E1BBB8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F31F7-3809-428E-99DE-6716936D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F5575A-C8BA-4D16-BF9D-B770794A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7343B4-6030-4FE4-A308-6C7136D5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4CBFB8-5159-44DB-995F-AC6849F6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ĺžni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ĺžni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bdĺžni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bdĺžni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ĺžni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ĺžni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ovná spojnic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á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á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2A8F-11DA-4DC7-BFFF-D93B2719FC1F}" type="slidenum">
              <a:rPr b="0" lang="sk-SK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" name="Obrázok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ovná spojnica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bdĺžni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bdĺžni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bdĺžni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bdĺžni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bdĺžnik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bdĺžnik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bdĺžnik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á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á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bdĺžnik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6B43-71E1-4D91-B100-C377CD6C571A}" type="slidenum">
              <a:rPr b="0" lang="sk-SK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Obdĺžni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bdĺžni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bdĺžni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bdĺžni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bdĺžni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bdĺžni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ovná spojnic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á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á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Obrázok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68D3-CAC2-4404-8DAC-5C1EC5A51724}" type="slidenum">
              <a:rPr b="0" lang="sk-SK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Obdĺžni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bdĺžni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bdĺžnik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bdĺžni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bdĺžnik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bdĺžnik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ovná spojnica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á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á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A582-804C-4E57-80A2-3BE171EA900C}" type="slidenum">
              <a:rPr b="0" lang="sk-SK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bdĺžni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bdĺžni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bdĺžnik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dĺžnik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dĺžnik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vná spojnica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ĺžnik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á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á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1C92-AECE-4919-B898-0D1EF997EB0B}" type="slidenum">
              <a:rPr b="0" lang="sk-SK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bdĺžni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ĺžni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bdĺžni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ĺžni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bdĺžni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dĺžni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vná spojnic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á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á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Obrázok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5016-9136-4B48-A034-DABA6E83839E}" type="slidenum">
              <a:rPr b="0" lang="sk-SK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Obdĺžni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ĺžni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ĺžnik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ĺžnik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ĺžnik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ĺžnik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ĺžnik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dĺžni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vná spojnica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á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á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E5B8-1D0B-44B9-A1D7-B2D095038084}" type="slidenum">
              <a:rPr b="0" lang="sk-SK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Obdĺžni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bdĺžni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ĺžni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bdĺžni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ĺžni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bdĺžni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ovná spojnic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á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á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Obrázok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Rovná spojnica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CD04-EC44-485A-A9E7-0F1543ABA9DE}" type="slidenum">
              <a:rPr b="0" lang="sk-SK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ovná spojnica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ĺžni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ĺžnik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ĺžni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ĺžnik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ĺžnik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ĺžnik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vná spojnica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ĺžnik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á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á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A4E8-C5CF-4802-8951-70ABFF9A1569}" type="slidenum">
              <a:rPr b="0" lang="sk-SK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Obdĺžni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bdĺžni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bdĺžni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bdĺžni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dĺžni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bdĺžni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ovná spojnic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á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á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Obrázok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1DEA-A9E5-4AC4-903E-14310631DF34}" type="slidenum">
              <a:rPr b="0" lang="sk-SK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Obdĺžni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bdĺžni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bdĺžni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bdĺžni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bdĺžnik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bdĺžnik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A434-5FB0-4BC6-930B-42DADBB77D64}" type="slidenum">
              <a:rPr b="0" lang="sk-SK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Obdĺžnik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bdĺžni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bdĺžni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bdĺžnik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bdĺžni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bdĺžnik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bdĺžnik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ovná spojnica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á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á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bdĺžnik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3334-2944-47DF-BFDD-7240241F67C2}" type="slidenum">
              <a:rPr b="0" lang="sk-SK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app.box.com/s/ak1d7wzaux3svx3rd2e4v32wsvuk5hbg" TargetMode="External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app.box.com/s/z50yprce984j9a3azx9601uzdlr4f2f0" TargetMode="External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app.box.com/s/pzyklmjkl3o669m6lnbrk3zldx15sh7x" TargetMode="External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Obrázok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646b86"/>
                </a:solidFill>
                <a:latin typeface="Georgia"/>
              </a:rPr>
              <a:t>SEMINÁR </a:t>
            </a: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 CREUČ, 3</a:t>
            </a:r>
            <a:r>
              <a:rPr b="1" lang="sk-SK" sz="1600" spc="-1" strike="noStrike">
                <a:solidFill>
                  <a:srgbClr val="646b86"/>
                </a:solidFill>
                <a:latin typeface="Georgia"/>
              </a:rPr>
              <a:t>0</a:t>
            </a: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.</a:t>
            </a:r>
            <a:r>
              <a:rPr b="1" lang="sk-SK" sz="1600" spc="-1" strike="noStrike">
                <a:solidFill>
                  <a:srgbClr val="646b86"/>
                </a:solidFill>
                <a:latin typeface="Georgia"/>
              </a:rPr>
              <a:t>11</a:t>
            </a: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.201</a:t>
            </a:r>
            <a:r>
              <a:rPr b="1" lang="sk-SK" sz="1600" spc="-1" strike="noStrike">
                <a:solidFill>
                  <a:srgbClr val="646b86"/>
                </a:solidFill>
                <a:latin typeface="Georgia"/>
              </a:rPr>
              <a:t>5</a:t>
            </a: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, CVTI SR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646b86"/>
                </a:solidFill>
                <a:latin typeface="Georgia"/>
              </a:rPr>
              <a:t>MGR. KATARÍNA CZWITKOVICSOVÁ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d16349"/>
                </a:solidFill>
                <a:latin typeface="Georgia"/>
              </a:rPr>
              <a:t>Východiská, výstupy a procesy hodnotenia umeleckých výstupov z pohľadu prevádzkovateľa CREUČ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Obdĺžnik 17"/>
          <p:cNvSpPr/>
          <p:nvPr/>
        </p:nvSpPr>
        <p:spPr>
          <a:xfrm>
            <a:off x="179280" y="6165720"/>
            <a:ext cx="87854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000" spc="-1" strike="noStrike">
                <a:solidFill>
                  <a:srgbClr val="646b86"/>
                </a:solidFill>
                <a:latin typeface="Georgia"/>
              </a:rPr>
              <a:t>Podujatie sa koná v rámci realizácie národného projektu:  Národný informačný systém podpory výskumu a vývoja na Slovensk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000" spc="-1" strike="noStrike">
                <a:solidFill>
                  <a:srgbClr val="646b86"/>
                </a:solidFill>
                <a:latin typeface="Georgia"/>
              </a:rPr>
              <a:t>– </a:t>
            </a:r>
            <a:r>
              <a:rPr b="0" i="1" lang="sk-SK" sz="1000" spc="-1" strike="noStrike">
                <a:solidFill>
                  <a:srgbClr val="646b86"/>
                </a:solidFill>
                <a:latin typeface="Georgia"/>
              </a:rPr>
              <a:t>prístup k elektronickým informačným zdrojom (NISPEZ II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000" spc="-1" strike="noStrike">
                <a:solidFill>
                  <a:srgbClr val="646b86"/>
                </a:solidFill>
                <a:latin typeface="Georgia"/>
              </a:rPr>
              <a:t>Podporujeme výskumné aktivity na Slovensku / Projekt je spolufinancovaný zo zdrojov E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Skupina 14"/>
          <p:cNvGrpSpPr/>
          <p:nvPr/>
        </p:nvGrpSpPr>
        <p:grpSpPr>
          <a:xfrm>
            <a:off x="2916360" y="5157720"/>
            <a:ext cx="3832200" cy="727200"/>
            <a:chOff x="2916360" y="5157720"/>
            <a:chExt cx="3832200" cy="727200"/>
          </a:xfrm>
        </p:grpSpPr>
        <p:pic>
          <p:nvPicPr>
            <p:cNvPr id="623" name="Picture 2" descr=""/>
            <p:cNvPicPr/>
            <p:nvPr/>
          </p:nvPicPr>
          <p:blipFill>
            <a:blip r:embed="rId2"/>
            <a:stretch/>
          </p:blipFill>
          <p:spPr>
            <a:xfrm>
              <a:off x="4212360" y="5213160"/>
              <a:ext cx="506520" cy="4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Podnadpis 5"/>
            <p:cNvSpPr/>
            <p:nvPr/>
          </p:nvSpPr>
          <p:spPr>
            <a:xfrm>
              <a:off x="4716720" y="5157720"/>
              <a:ext cx="203184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5" name="Obrázok 20" descr="C:\Users\katarina.czwitkovics\AppData\Local\Microsoft\Windows\INetCache\Content.Outlook\FQ4HJ1N6\logo MSVVAS SR.png"/>
            <p:cNvPicPr/>
            <p:nvPr/>
          </p:nvPicPr>
          <p:blipFill>
            <a:blip r:embed="rId3"/>
            <a:stretch/>
          </p:blipFill>
          <p:spPr>
            <a:xfrm>
              <a:off x="2916360" y="5301360"/>
              <a:ext cx="112392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Obrázok 27" descr="Obrázok2.jpg"/>
            <p:cNvPicPr/>
            <p:nvPr/>
          </p:nvPicPr>
          <p:blipFill>
            <a:blip r:embed="rId4"/>
            <a:stretch/>
          </p:blipFill>
          <p:spPr>
            <a:xfrm>
              <a:off x="5004720" y="5229360"/>
              <a:ext cx="56196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Obrázok 4" descr="Obrázok1.png"/>
            <p:cNvPicPr/>
            <p:nvPr/>
          </p:nvPicPr>
          <p:blipFill>
            <a:blip r:embed="rId5"/>
            <a:stretch/>
          </p:blipFill>
          <p:spPr>
            <a:xfrm>
              <a:off x="5868720" y="5229360"/>
              <a:ext cx="495000" cy="49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Pracovné podklady na hodnoten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01320" y="1628640"/>
            <a:ext cx="85042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Georgia"/>
              </a:rPr>
              <a:t>Výtvarné umeni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Georgia"/>
              </a:rPr>
              <a:t>Dizaj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Georgia"/>
              </a:rPr>
              <a:t>Architektúr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Georgia"/>
              </a:rPr>
              <a:t>Reštaurovani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Georgia"/>
              </a:rPr>
              <a:t>Kurátorstv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Georgia"/>
              </a:rPr>
              <a:t>Hudobné umeni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Georgia"/>
              </a:rPr>
              <a:t>Divadelné ume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Georgia"/>
              </a:rPr>
              <a:t>Filmové umeni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Georgia"/>
              </a:rPr>
              <a:t>Tanečné umeni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Obdĺžnik 3"/>
          <p:cNvSpPr/>
          <p:nvPr/>
        </p:nvSpPr>
        <p:spPr>
          <a:xfrm>
            <a:off x="468360" y="1484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eorgia"/>
              </a:rPr>
              <a:t>9 x tabuľky pre hodnotiteľ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Pracovné podklady na hodnoten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320" y="1628640"/>
            <a:ext cx="85042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zastúpenie vysokých škôl v základných a jednotlivých DUC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adekvátne rozdelenie počtov kontrolovaných záznamov jednotlivým hodnotiteľo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hodnotiteľ neposudzuje výkony vlastnej VŠ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Obdĺžnik 3"/>
          <p:cNvSpPr/>
          <p:nvPr/>
        </p:nvSpPr>
        <p:spPr>
          <a:xfrm>
            <a:off x="468360" y="1484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eorgia"/>
              </a:rPr>
              <a:t>Modely hodnotiteľov - pravidl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Pracovné podklady na hodnoten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1320" y="1628640"/>
            <a:ext cx="85042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každý záznam hodnotia dvaja hodnotitel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ku každému záznamu musia zaujať stanovisk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spolupracujú nezávislí odborníc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výsledky každého nezávislého hodnotenia sa zašlú CVT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Obdĺžnik 3"/>
          <p:cNvSpPr/>
          <p:nvPr/>
        </p:nvSpPr>
        <p:spPr>
          <a:xfrm>
            <a:off x="468360" y="1484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eorgia"/>
              </a:rPr>
              <a:t>Modely hodnotiteľov - pravidl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Pracovné podklady na hodnoten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628640"/>
            <a:ext cx="85042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Georgia"/>
              </a:rPr>
              <a:t>Ukážka modelov rozdelenia hodnotenia pre VU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Georgia"/>
              </a:rPr>
              <a:t>VU: </a:t>
            </a:r>
            <a:r>
              <a:rPr b="0" lang="sk-SK" sz="24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/vu-modelhodnotenia-seminár.xl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Obdĺžnik 3"/>
          <p:cNvSpPr/>
          <p:nvPr/>
        </p:nvSpPr>
        <p:spPr>
          <a:xfrm>
            <a:off x="468360" y="1484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eorgia"/>
              </a:rPr>
              <a:t>Modely hodnotiteľ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Pracovné podklady na hodnoten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1320" y="1628640"/>
            <a:ext cx="85042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Georgia"/>
              </a:rPr>
              <a:t>Zohľadňujú špecifiká jednotlivých druhov umeleckých činností – upravené aj formulá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Georgia"/>
              </a:rPr>
              <a:t>Napr. v hudobnom umení 2 formulár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sk-SK" sz="2400" spc="-1" strike="noStrike">
                <a:solidFill>
                  <a:srgbClr val="000000"/>
                </a:solidFill>
                <a:latin typeface="Georgia"/>
              </a:rPr>
              <a:t>hudobné dielo a hudobná interpretác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Georgia"/>
              </a:rPr>
              <a:t>Vo výtvarnom umení 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sk-SK" sz="2400" spc="-1" strike="noStrike">
                <a:solidFill>
                  <a:srgbClr val="000000"/>
                </a:solidFill>
                <a:latin typeface="Georgia"/>
              </a:rPr>
              <a:t>podujatie a diel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Obdĺžnik 3"/>
          <p:cNvSpPr/>
          <p:nvPr/>
        </p:nvSpPr>
        <p:spPr>
          <a:xfrm>
            <a:off x="468360" y="1484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eorgia"/>
              </a:rPr>
              <a:t>Tabuľky pre hodnotiteľ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Tabuľky pre hodnotenie v DUC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01320" y="1628640"/>
            <a:ext cx="85042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Georgia"/>
              </a:rPr>
              <a:t>Ukážka tabuľky pre hodnotenie pre VU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sk-SK" sz="24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creuc-2013-vu-hodnotitel_a.xl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9" name="Obdĺžnik 3"/>
          <p:cNvSpPr/>
          <p:nvPr/>
        </p:nvSpPr>
        <p:spPr>
          <a:xfrm>
            <a:off x="468360" y="1484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eorgia"/>
              </a:rPr>
              <a:t>Výtvarné um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Tabuľky pre hodnotenie v DUC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01320" y="1628640"/>
            <a:ext cx="85042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Georgia"/>
              </a:rPr>
              <a:t>Ukážka tabuľky pre hodnotenie pre HU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sk-SK" sz="24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creuc-2013-hu-hodnotitel_b.xl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Obdĺžnik 3"/>
          <p:cNvSpPr/>
          <p:nvPr/>
        </p:nvSpPr>
        <p:spPr>
          <a:xfrm>
            <a:off x="468360" y="1484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eorgia"/>
              </a:rPr>
              <a:t>Hudobné um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Niekoľko postrehov z vykazovani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628640"/>
            <a:ext cx="85042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doplniť obsahové nastavenie formulárov za každý DUC – každý má svoje osobitost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využiť skúsenosti z RUV a spolupracovať aj s nezávislými odborníkm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zvýši sa odbornosť a kvalita zaznamenaných informácií o umeleckých výkonoch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Niekoľko postrehov z vykazovani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01320" y="1628640"/>
            <a:ext cx="85042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presnejšie definovať vágne pojmy ako je napr. závažnosť, rozsah, dielo, inštitúc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jednoznačne stanoviť, čo patrí - nepatrí do CREUČ (resp. do CREPČ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metodiku po odbornej stránke by mali spracovávať  a priebežne doplňovať odborníci za každý DUC, po organizačnej stránke CVTI S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Niekoľko postrehov z vykazovani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628640"/>
            <a:ext cx="85042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v novom softvéri zlepšiť kvalitu vyhľadávania – unifikácia zápisu autorov, podujatí a inštitúcií (autority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akreditácie – zapracovať do softvéru – pomôcka VŠ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Hodnoten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sk-SK" sz="2700" spc="-1" strike="noStrike">
                <a:solidFill>
                  <a:srgbClr val="000000"/>
                </a:solidFill>
                <a:latin typeface="Georgia"/>
              </a:rPr>
              <a:t>Z hľadiska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Georgia"/>
              </a:rPr>
              <a:t>legislatív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d16349"/>
                </a:solidFill>
                <a:latin typeface="Georgia"/>
              </a:rPr>
              <a:t>II.</a:t>
            </a:r>
            <a:r>
              <a:rPr b="0" lang="sk-SK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sk-SK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sk-SK" sz="2700" spc="-1" strike="noStrike">
                <a:solidFill>
                  <a:srgbClr val="000000"/>
                </a:solidFill>
                <a:latin typeface="Georgia"/>
              </a:rPr>
              <a:t>formálnych a obsahových kontro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Niekoľko postrehov z vykazovani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01320" y="1628640"/>
            <a:ext cx="85042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vytvoriť pracovné tímy odborníkov pr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1. odborné otázky  - tvorba metodiky a  nastavenie softvér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2. legislatív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Nadpis 1"/>
          <p:cNvSpPr/>
          <p:nvPr/>
        </p:nvSpPr>
        <p:spPr>
          <a:xfrm>
            <a:off x="685800" y="38088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d16349"/>
                </a:solidFill>
                <a:latin typeface="Georgia"/>
              </a:rPr>
              <a:t>Východiská, výstupy a procesy hodnotenia umeleckých výstupov z pohľadu prevádzkovateľa CREU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Skupina 8"/>
          <p:cNvGrpSpPr/>
          <p:nvPr/>
        </p:nvGrpSpPr>
        <p:grpSpPr>
          <a:xfrm>
            <a:off x="2916360" y="5157720"/>
            <a:ext cx="3832200" cy="727200"/>
            <a:chOff x="2916360" y="5157720"/>
            <a:chExt cx="3832200" cy="727200"/>
          </a:xfrm>
        </p:grpSpPr>
        <p:pic>
          <p:nvPicPr>
            <p:cNvPr id="683" name="Picture 2" descr=""/>
            <p:cNvPicPr/>
            <p:nvPr/>
          </p:nvPicPr>
          <p:blipFill>
            <a:blip r:embed="rId1"/>
            <a:stretch/>
          </p:blipFill>
          <p:spPr>
            <a:xfrm>
              <a:off x="4212360" y="5213160"/>
              <a:ext cx="506520" cy="4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Podnadpis 5"/>
            <p:cNvSpPr/>
            <p:nvPr/>
          </p:nvSpPr>
          <p:spPr>
            <a:xfrm>
              <a:off x="4716720" y="5157720"/>
              <a:ext cx="203184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Obrázok 11" descr="C:\Users\katarina.czwitkovics\AppData\Local\Microsoft\Windows\INetCache\Content.Outlook\FQ4HJ1N6\logo MSVVAS SR.png"/>
            <p:cNvPicPr/>
            <p:nvPr/>
          </p:nvPicPr>
          <p:blipFill>
            <a:blip r:embed="rId2"/>
            <a:stretch/>
          </p:blipFill>
          <p:spPr>
            <a:xfrm>
              <a:off x="2916360" y="5301360"/>
              <a:ext cx="112392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Obrázok 12" descr="Obrázok2.jpg"/>
            <p:cNvPicPr/>
            <p:nvPr/>
          </p:nvPicPr>
          <p:blipFill>
            <a:blip r:embed="rId3"/>
            <a:stretch/>
          </p:blipFill>
          <p:spPr>
            <a:xfrm>
              <a:off x="5004720" y="5229360"/>
              <a:ext cx="56196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Obrázok 4" descr="Obrázok1.png"/>
            <p:cNvPicPr/>
            <p:nvPr/>
          </p:nvPicPr>
          <p:blipFill>
            <a:blip r:embed="rId4"/>
            <a:stretch/>
          </p:blipFill>
          <p:spPr>
            <a:xfrm>
              <a:off x="5868720" y="5229360"/>
              <a:ext cx="495000" cy="49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8" name="Obdĺžnik 14"/>
          <p:cNvSpPr/>
          <p:nvPr/>
        </p:nvSpPr>
        <p:spPr>
          <a:xfrm>
            <a:off x="179280" y="6165720"/>
            <a:ext cx="87854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000" spc="-1" strike="noStrike">
                <a:solidFill>
                  <a:srgbClr val="646b86"/>
                </a:solidFill>
                <a:latin typeface="Georgia"/>
              </a:rPr>
              <a:t>Podujatie sa koná v rámci realizácie národného projektu:  Národný informačný systém podpory výskumu a vývoja na Slovensk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000" spc="-1" strike="noStrike">
                <a:solidFill>
                  <a:srgbClr val="646b86"/>
                </a:solidFill>
                <a:latin typeface="Georgia"/>
              </a:rPr>
              <a:t>– </a:t>
            </a:r>
            <a:r>
              <a:rPr b="0" i="1" lang="sk-SK" sz="1000" spc="-1" strike="noStrike">
                <a:solidFill>
                  <a:srgbClr val="646b86"/>
                </a:solidFill>
                <a:latin typeface="Georgia"/>
              </a:rPr>
              <a:t>prístup k elektronickým informačným zdrojom (NISPEZ II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000" spc="-1" strike="noStrike">
                <a:solidFill>
                  <a:srgbClr val="646b86"/>
                </a:solidFill>
                <a:latin typeface="Georgia"/>
              </a:rPr>
              <a:t>Podporujeme výskumné aktivity na Slovensku / Projekt je spolufinancovaný zo zdrojov E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odnadpis 2"/>
          <p:cNvSpPr/>
          <p:nvPr/>
        </p:nvSpPr>
        <p:spPr>
          <a:xfrm>
            <a:off x="125892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646b86"/>
                </a:solidFill>
                <a:latin typeface="Georgia"/>
              </a:rPr>
              <a:t>ĎAKUJEM ZA VAŠU POZORNOS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646b86"/>
                </a:solidFill>
                <a:latin typeface="Georgia"/>
              </a:rPr>
              <a:t>MGR. KATARÍNA CZWITKOVICSOV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Kritériá hodnotenia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2781360"/>
            <a:ext cx="850428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Zákon 455 z 13. decembra 2012, </a:t>
            </a:r>
            <a:r>
              <a:rPr b="0" lang="sk-SK" sz="2700" spc="-1" strike="noStrike">
                <a:solidFill>
                  <a:srgbClr val="000000"/>
                </a:solidFill>
                <a:latin typeface="Georgia"/>
              </a:rPr>
              <a:t>ktorým sa mení a dopĺňa zákon č. 131/2002 Z. z. o vysokých školách a o zmene a doplnení niektorých zákonov v znení neskorších predpisov..., konkrétne podľa §108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Obdĺžnik 3"/>
          <p:cNvSpPr/>
          <p:nvPr/>
        </p:nvSpPr>
        <p:spPr>
          <a:xfrm>
            <a:off x="468360" y="1628640"/>
            <a:ext cx="52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eorgia"/>
              </a:rPr>
              <a:t>z  hľadiska legislatí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Kritériá hodnoteni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628640"/>
            <a:ext cx="85042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Vyhláška</a:t>
            </a:r>
            <a:r>
              <a:rPr b="0" lang="sk-SK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456 </a:t>
            </a:r>
            <a:r>
              <a:rPr b="0" lang="sk-SK" sz="2700" spc="-1" strike="noStrike">
                <a:solidFill>
                  <a:srgbClr val="000000"/>
                </a:solidFill>
                <a:latin typeface="Georgia"/>
              </a:rPr>
              <a:t>Ministerstva školstva, vedy, výskumu a športu Slovenskej republik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z 18. decembra 2012 </a:t>
            </a:r>
            <a:r>
              <a:rPr b="0" lang="sk-SK" sz="2700" spc="-1" strike="noStrike">
                <a:solidFill>
                  <a:srgbClr val="000000"/>
                </a:solidFill>
                <a:latin typeface="Georgia"/>
              </a:rPr>
              <a:t>o centrálnom registri evidencie publikačnej činnosti a centrálnom registri evidencie umeleckej činnosti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Obdĺžnik 3"/>
          <p:cNvSpPr/>
          <p:nvPr/>
        </p:nvSpPr>
        <p:spPr>
          <a:xfrm>
            <a:off x="468360" y="1484280"/>
            <a:ext cx="52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eorgia"/>
              </a:rPr>
              <a:t>z hľadiska legislatí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Hodnotenie VŠ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628640"/>
            <a:ext cx="85042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akademické knižnic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poverení garanti študijných odborov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Obdĺžnik 3"/>
          <p:cNvSpPr/>
          <p:nvPr/>
        </p:nvSpPr>
        <p:spPr>
          <a:xfrm>
            <a:off x="468360" y="1484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eorgia"/>
              </a:rPr>
              <a:t>Procesy vnútorných k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Hodnotenie VŠ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628640"/>
            <a:ext cx="85042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Pracovníci akademických knižníc kontrolujú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počas evidencie záznamov úplnosť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a jednotnosť zápisu záznamov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relevantnosť pripojených podkladov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v elektronickej for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Obdĺžnik 3"/>
          <p:cNvSpPr/>
          <p:nvPr/>
        </p:nvSpPr>
        <p:spPr>
          <a:xfrm>
            <a:off x="468360" y="1484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eorgia"/>
              </a:rPr>
              <a:t>Procesy vnútorných k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Hodnotenie VŠ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628640"/>
            <a:ext cx="85042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Garanti   študijných odborov na VŠ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kontrolujú obsahové nedostatk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správnosť stanovenej kategór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(peer-review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Obdĺžnik 3"/>
          <p:cNvSpPr/>
          <p:nvPr/>
        </p:nvSpPr>
        <p:spPr>
          <a:xfrm>
            <a:off x="468360" y="1484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eorgia"/>
              </a:rPr>
              <a:t>Procesy vnútorných k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Hodnotenie CVTI S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628640"/>
            <a:ext cx="85042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Tabuľky pre hodnotenie hodnotiteľo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000000"/>
                </a:solidFill>
                <a:latin typeface="Georgia"/>
              </a:rPr>
              <a:t>Rozdelenie podľa 9 druhov umeleckých činnost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Obdĺžnik 3"/>
          <p:cNvSpPr/>
          <p:nvPr/>
        </p:nvSpPr>
        <p:spPr>
          <a:xfrm>
            <a:off x="468360" y="1484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eorgia"/>
              </a:rPr>
              <a:t>z hľadiska formálnych a obsahových k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Hodnotenie CVTI S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01320" y="1628640"/>
            <a:ext cx="85042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500" spc="-1" strike="noStrike">
                <a:solidFill>
                  <a:srgbClr val="000000"/>
                </a:solidFill>
                <a:latin typeface="Georgia"/>
              </a:rPr>
              <a:t>hodnotenie evidovaných výstupov podľa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sk-SK" sz="2500" spc="-1" strike="noStrike">
                <a:solidFill>
                  <a:srgbClr val="000000"/>
                </a:solidFill>
                <a:latin typeface="Georgia"/>
              </a:rPr>
              <a:t>druhov umeleckých činností a podľa VŠ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500" spc="-1" strike="noStrike">
                <a:solidFill>
                  <a:srgbClr val="000000"/>
                </a:solidFill>
                <a:latin typeface="Georgia"/>
              </a:rPr>
              <a:t>kontrola všetkých povinných údajov, predovšetkým v záznamoch s kategóriami renomovanosti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500" spc="-1" strike="noStrike">
                <a:solidFill>
                  <a:srgbClr val="000000"/>
                </a:solidFill>
                <a:latin typeface="Georgia"/>
              </a:rPr>
              <a:t>kontrola relevantnosti pripojenej dokumentáci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500" spc="-1" strike="noStrike">
                <a:solidFill>
                  <a:srgbClr val="000000"/>
                </a:solidFill>
                <a:latin typeface="Georgia"/>
              </a:rPr>
              <a:t>konštatovanie rozličného hodnotenia toho istého typu výstupu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500" spc="-1" strike="noStrike">
                <a:solidFill>
                  <a:srgbClr val="000000"/>
                </a:solidFill>
                <a:latin typeface="Georgia"/>
              </a:rPr>
              <a:t>poukázanie na zistené nedostatky formou zváženia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Obdĺžnik 3"/>
          <p:cNvSpPr/>
          <p:nvPr/>
        </p:nvSpPr>
        <p:spPr>
          <a:xfrm>
            <a:off x="468360" y="1484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eorgia"/>
              </a:rPr>
              <a:t>Procesy k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9T18:00:05Z</dcterms:created>
  <dc:creator>tom</dc:creator>
  <dc:description/>
  <dc:language>en-US</dc:language>
  <cp:lastModifiedBy>Tomáš Bareán</cp:lastModifiedBy>
  <dcterms:modified xsi:type="dcterms:W3CDTF">2016-02-03T11:17:57Z</dcterms:modified>
  <cp:revision>79</cp:revision>
  <dc:subject/>
  <dc:title>Snímka 1</dc:title>
</cp:coreProperties>
</file>